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329-130B-421A-BF2D-DE4A642E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3A5-16EF-45EA-AD95-005D6A42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ABD-2A6F-4D70-A066-3AE1CCE7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7DB-5E45-4033-8462-61F69235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EEA-90FF-4664-9CBD-9DF195C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448-C573-47BB-ABC7-3C20C0D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839-46CB-41B1-9ECA-7ED03A05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D41-BE3B-43C4-AF8E-CF73CBCF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6F6-9146-48A5-9A36-E1E7BCC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BC1-1973-4780-AE86-E84DF255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2B1-4018-4887-85CA-D08A6DA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AE4-8CC1-497C-9954-15358A8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2da2bf">
                    <a:alpha val="0"/>
                  </a:srgbClr>
                </a:gs>
                <a:gs pos="100000">
                  <a:srgbClr val="e8f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Segoe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621-BA2B-474D-B8C5-4BC962D5C94E}" type="slidenum">
              <a:rPr b="0" lang="es-CL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91" name="Rectangle 17"/>
            <p:cNvGrpSpPr/>
            <p:nvPr/>
          </p:nvGrpSpPr>
          <p:grpSpPr>
            <a:xfrm>
              <a:off x="0" y="383760"/>
              <a:ext cx="9144000" cy="6096240"/>
              <a:chOff x="0" y="383760"/>
              <a:chExt cx="9144000" cy="6096240"/>
            </a:xfrm>
          </p:grpSpPr>
          <p:pic>
            <p:nvPicPr>
              <p:cNvPr id="92" name="Rectangl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86640"/>
                <a:ext cx="9144000" cy="609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0" y="383760"/>
                <a:ext cx="9144000" cy="60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egoe Condensed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6" name="Straight Connector 15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7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Unidad 0: Unidades de medida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Objetivo: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Conocer las unidades de medidas y realizar conversione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pic>
        <p:nvPicPr>
          <p:cNvPr id="138" name="Picture 2" descr="http://200.21.193.162:81/cursos/tecnologia/cuarto/percusion/metro.gif"/>
          <p:cNvPicPr/>
          <p:nvPr/>
        </p:nvPicPr>
        <p:blipFill>
          <a:blip r:embed="rId1"/>
          <a:stretch/>
        </p:blipFill>
        <p:spPr>
          <a:xfrm>
            <a:off x="3419640" y="3789360"/>
            <a:ext cx="231444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Sistema internacional de medida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560" y="162828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K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Las diferentes magnitudes poseen diferentes unidades de medidas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Ej. la magnitud longitud, su Unidad de medida puede ser m, Km, cm, etc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En física se establecen medidas estándar para magnitudes especificas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816360" cy="2687760"/>
          </a:xfrm>
          <a:prstGeom prst="rect">
            <a:avLst/>
          </a:prstGeom>
          <a:ln w="0">
            <a:noFill/>
          </a:ln>
        </p:spPr>
      </p:pic>
      <p:sp>
        <p:nvSpPr>
          <p:cNvPr id="142" name="3 Rectángulo"/>
          <p:cNvSpPr/>
          <p:nvPr/>
        </p:nvSpPr>
        <p:spPr>
          <a:xfrm>
            <a:off x="4983120" y="1682640"/>
            <a:ext cx="396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Sistema internacional (MKS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Distancia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560" y="1599840"/>
            <a:ext cx="460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¿En que se miden las </a:t>
            </a:r>
            <a:br>
              <a:rPr sz="2800"/>
            </a:b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distancias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Kilómetros (Km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etros (m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Centímetros (cm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kilometro= 1000 metr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metro= 100 centímetr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5" name="2 Marcador de contenido"/>
          <p:cNvSpPr/>
          <p:nvPr/>
        </p:nvSpPr>
        <p:spPr>
          <a:xfrm>
            <a:off x="4425840" y="1700280"/>
            <a:ext cx="4610160" cy="504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ántos metros son 50Km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50 kilómetros -&gt; 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kilometro -&gt; 1000 metro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Multiplica cruzado y divide: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50 Km * 1000 m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50000 m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Km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R= 50 kilómetros son 50000 metros 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Tiempo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56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¿Como medimos el tiempo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Hora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inut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Segund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hora -&gt;60 minut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hora -&gt;3600 segundo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4067280" y="907920"/>
            <a:ext cx="4968720" cy="5834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antos segundos son 45 min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min -&gt; 60 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45 min -&gt; x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45min * 60 s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2700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min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antos min son 3,5 horas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hr -&gt; 60 min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3,5 hr -&gt; x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ffffff"/>
                </a:solidFill>
                <a:uFillTx/>
                <a:latin typeface="Segoe Condensed"/>
              </a:rPr>
              <a:t>60 min * 3,5 hr </a:t>
            </a:r>
            <a:r>
              <a:rPr b="0" lang="sv-SE" sz="2400" spc="-1" strike="noStrike">
                <a:solidFill>
                  <a:srgbClr val="ffffff"/>
                </a:solidFill>
                <a:latin typeface="Segoe Condensed"/>
              </a:rPr>
              <a:t>= 210 min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hr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Bookman Old Style"/>
              </a:rPr>
              <a:t>Masa.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¿Cómo cuantificamos la masa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Kg -&gt; 1000gr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gr -&gt; 0,001 Kg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4067280" y="1628640"/>
            <a:ext cx="4968720" cy="5113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ántos gramos son 2 ½ Kg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gr -&gt; 0,001 Kg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x -&gt; 2,5 Kg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1gr * 2,5 Kg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2500gr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0,001 Kg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Bookman Old Style"/>
              </a:rPr>
              <a:t>Velocidad.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56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¿Cómo se miden las velocidades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Km / hr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 / s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Km</a:t>
            </a: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 -&gt; 0,278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m</a:t>
            </a: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 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    hr                 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4067280" y="1628640"/>
            <a:ext cx="4968720" cy="5113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¿Cuántos son 50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Km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en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m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 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hr       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  Km/hr -&gt; 0,278 m/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50 Km/hr -&gt; 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50 Km/hr * 0,278 m/s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13.9 m/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Km/hr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Bookman Old Style"/>
              </a:rPr>
              <a:t>Actividad.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512720"/>
            <a:ext cx="914400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antos kilómetros son 7,2 cm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ántos centímetros son 180km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ántos gramos son 560 kg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Segoe Condensed"/>
              </a:rPr>
              <a:t>¿</a:t>
            </a: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Cuantos</a:t>
            </a:r>
            <a:r>
              <a:rPr b="0" lang="pt-BR" sz="2600" spc="-1" strike="noStrike">
                <a:solidFill>
                  <a:srgbClr val="ffffff"/>
                </a:solidFill>
                <a:latin typeface="Segoe Condensed"/>
              </a:rPr>
              <a:t> Km/h </a:t>
            </a: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son</a:t>
            </a:r>
            <a:r>
              <a:rPr b="0" lang="pt-BR" sz="2600" spc="-1" strike="noStrike">
                <a:solidFill>
                  <a:srgbClr val="ffffff"/>
                </a:solidFill>
                <a:latin typeface="Segoe Condensed"/>
              </a:rPr>
              <a:t> 567 m/s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antos segundos son 36 horas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Si caminamos 0,36 km, después caminamos 180 m y finalmente 187cm mas. ¿Cuánto fue la distancia recorrida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antos segundos hay en el primer tiempo de un partido de fútbol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ál es la velocidad de un vehículo que recorre 200 metros en 5 segundos 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43:28Z</dcterms:created>
  <dc:creator>Pancho</dc:creator>
  <dc:description/>
  <dc:language>en-US</dc:language>
  <cp:lastModifiedBy>francisco soto</cp:lastModifiedBy>
  <dcterms:modified xsi:type="dcterms:W3CDTF">2013-04-02T01:50:31Z</dcterms:modified>
  <cp:revision>14</cp:revision>
  <dc:subject/>
  <dc:title>Bienvenidos a la asignatura de Física 2°Medio</dc:title>
</cp:coreProperties>
</file>